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EBEE-69A7-4B7D-9395-8779F8468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8DDD-00D6-4729-8656-0E0A81E2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D9B6-EEF6-433F-819D-725022AA9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93BE-A5CF-4DA5-B21E-D5CF09ED1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24CF-31FD-406D-8AC5-59D8C336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0D28-AE31-4EA0-A0B5-C7BB6B5B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7AD2-7FC9-47F4-A705-A36EC2DC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0DD9-D848-4009-AE5E-4F95E262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0A5E-3C21-41FF-9270-6BEA6C05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A3E8-3396-4849-84CF-9DBB5C92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E955-4B14-43DF-8B0D-9A255274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06F6-6ACC-4D8A-92BD-83FE1764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097E-5DDA-40A6-9263-24F0D26761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52280" y="0"/>
            <a:ext cx="76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0" spc="-1" strike="noStrike">
                <a:solidFill>
                  <a:srgbClr val="000000"/>
                </a:solidFill>
                <a:latin typeface="Bradley Hand ITC"/>
              </a:rPr>
              <a:t>S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1600200" y="914400"/>
            <a:ext cx="76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0" spc="-1" strike="noStrike">
                <a:solidFill>
                  <a:srgbClr val="000000"/>
                </a:solidFill>
                <a:latin typeface="Bradley Hand ITC"/>
              </a:rPr>
              <a:t>O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2971800" y="1981080"/>
            <a:ext cx="76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0" spc="-1" strike="noStrike">
                <a:solidFill>
                  <a:srgbClr val="000000"/>
                </a:solidFill>
                <a:latin typeface="Bradley Hand ITC"/>
              </a:rPr>
              <a:t>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4648320" y="2895480"/>
            <a:ext cx="761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0" spc="-1" strike="noStrike">
                <a:solidFill>
                  <a:srgbClr val="000000"/>
                </a:solidFill>
                <a:latin typeface="Bradley Hand ITC"/>
              </a:rPr>
              <a:t>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6248520" y="4038480"/>
            <a:ext cx="761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0" spc="-1" strike="noStrike">
                <a:solidFill>
                  <a:srgbClr val="000000"/>
                </a:solidFill>
                <a:latin typeface="Bradley Hand ITC"/>
              </a:rPr>
              <a:t>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7620120" y="5029200"/>
            <a:ext cx="761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0" spc="-1" strike="noStrike">
                <a:solidFill>
                  <a:srgbClr val="000000"/>
                </a:solidFill>
                <a:latin typeface="Bradley Hand ITC"/>
              </a:rPr>
              <a:t>T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Users\Fran\AppData\Local\Temp\Temporary Internet Files\Content.IE5\ID674X9T\MC900379075[1].wmf"/>
          <p:cNvPicPr/>
          <p:nvPr/>
        </p:nvPicPr>
        <p:blipFill>
          <a:blip r:embed="rId1"/>
          <a:stretch/>
        </p:blipFill>
        <p:spPr>
          <a:xfrm>
            <a:off x="6400800" y="152280"/>
            <a:ext cx="2352600" cy="3171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Users\Fran\AppData\Local\Temp\Temporary Internet Files\Content.IE5\ID674X9T\MC900379075[1].wmf"/>
          <p:cNvPicPr/>
          <p:nvPr/>
        </p:nvPicPr>
        <p:blipFill>
          <a:blip r:embed="rId2"/>
          <a:stretch/>
        </p:blipFill>
        <p:spPr>
          <a:xfrm>
            <a:off x="533520" y="3352680"/>
            <a:ext cx="235260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Shakespearean Sonnet #18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(sort of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52280" y="114300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o long as men can breathe or eyes can see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nd summer's lease hath all too short a dat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nd every fair from fair sometime declines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ou art more lovely and more temperat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ut thy eternal summer shall not fade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hen in eternal lines to time thou growes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ough winds do shake the darling buds of May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or shall death brag thou wanderest in his shade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o long lives this, and this gives life to the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nd often is his gold complexion dimmed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ometime too hot the eye of heaven shines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or lose possession of that fair thou owest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y chance, or nature's changing course, untrimmed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hall I compare thee to a summer's day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6" descr="http://t3.gstatic.com/images?q=tbn:ANd9GcRe90oS_Lav3tSxfGMK5VTtvUzQXDcJm6Zrd8Oww5NWnuHNerLn"/>
          <p:cNvPicPr/>
          <p:nvPr/>
        </p:nvPicPr>
        <p:blipFill>
          <a:blip r:embed="rId1"/>
          <a:srcRect l="10147" t="0" r="8695" b="0"/>
          <a:stretch/>
        </p:blipFill>
        <p:spPr>
          <a:xfrm>
            <a:off x="6629400" y="457200"/>
            <a:ext cx="22860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Shakespearean Sonnet #18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(for real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152280" y="14479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all I compare thee to a summer's da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152280" y="1828800"/>
            <a:ext cx="678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ou art more lovely and more temperate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152280" y="220968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ugh winds do shake the darling buds of M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9"/>
          <p:cNvSpPr/>
          <p:nvPr/>
        </p:nvSpPr>
        <p:spPr>
          <a:xfrm>
            <a:off x="152280" y="257004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summer's lease hath all too short a d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0"/>
          <p:cNvSpPr/>
          <p:nvPr/>
        </p:nvSpPr>
        <p:spPr>
          <a:xfrm>
            <a:off x="152280" y="289548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time too hot the eye of heaven shines,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1"/>
          <p:cNvSpPr/>
          <p:nvPr/>
        </p:nvSpPr>
        <p:spPr>
          <a:xfrm>
            <a:off x="152280" y="325584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often is his gold complexion dimmed;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2"/>
          <p:cNvSpPr/>
          <p:nvPr/>
        </p:nvSpPr>
        <p:spPr>
          <a:xfrm>
            <a:off x="152280" y="35910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every fair from fair sometime declin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3"/>
          <p:cNvSpPr/>
          <p:nvPr/>
        </p:nvSpPr>
        <p:spPr>
          <a:xfrm>
            <a:off x="152280" y="394164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chance, or nature's changing course, untrimme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4"/>
          <p:cNvSpPr/>
          <p:nvPr/>
        </p:nvSpPr>
        <p:spPr>
          <a:xfrm>
            <a:off x="152280" y="432288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thy eternal summer shall not fade,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5"/>
          <p:cNvSpPr/>
          <p:nvPr/>
        </p:nvSpPr>
        <p:spPr>
          <a:xfrm>
            <a:off x="152280" y="470376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r lose possession of that fair thou owe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6"/>
          <p:cNvSpPr/>
          <p:nvPr/>
        </p:nvSpPr>
        <p:spPr>
          <a:xfrm>
            <a:off x="152280" y="508464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r shall death brag thou wanderest in his shade,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7"/>
          <p:cNvSpPr/>
          <p:nvPr/>
        </p:nvSpPr>
        <p:spPr>
          <a:xfrm>
            <a:off x="152280" y="54658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in eternal lines to time thou growest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8"/>
          <p:cNvSpPr/>
          <p:nvPr/>
        </p:nvSpPr>
        <p:spPr>
          <a:xfrm>
            <a:off x="152280" y="586728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 long as men can breathe or eyes can see,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9"/>
          <p:cNvSpPr/>
          <p:nvPr/>
        </p:nvSpPr>
        <p:spPr>
          <a:xfrm>
            <a:off x="152280" y="62578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 long lives this, and this gives life to th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http://4.bp.blogspot.com/-Jz4y--LqrYE/TaiZJjhX7sI/AAAAAAAAAI8/gPYYIH75cZc/s1600/shakespeare.jpg"/>
          <p:cNvPicPr/>
          <p:nvPr/>
        </p:nvPicPr>
        <p:blipFill>
          <a:blip r:embed="rId1"/>
          <a:srcRect l="4006" t="0" r="5329" b="0"/>
          <a:stretch/>
        </p:blipFill>
        <p:spPr>
          <a:xfrm>
            <a:off x="7162920" y="762120"/>
            <a:ext cx="1981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04560" y="0"/>
            <a:ext cx="84582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What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0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IS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Calibri"/>
              </a:rPr>
              <a:t>SONNET?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Users\Fran\AppData\Local\Temp\Temporary Internet Files\Content.IE5\ORPY4MWU\MC900441498[1].png"/>
          <p:cNvPicPr/>
          <p:nvPr/>
        </p:nvPicPr>
        <p:blipFill>
          <a:blip r:embed="rId1"/>
          <a:stretch/>
        </p:blipFill>
        <p:spPr>
          <a:xfrm>
            <a:off x="6095880" y="1371600"/>
            <a:ext cx="2901960" cy="2901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Fran\AppData\Local\Temp\Temporary Internet Files\Content.IE5\ORPY4MWU\MC900441498[1].png"/>
          <p:cNvPicPr/>
          <p:nvPr/>
        </p:nvPicPr>
        <p:blipFill>
          <a:blip r:embed="rId2"/>
          <a:stretch/>
        </p:blipFill>
        <p:spPr>
          <a:xfrm>
            <a:off x="0" y="1447920"/>
            <a:ext cx="290196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~ The Basics of a Sonnet ~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 rot="1411200">
            <a:off x="752760" y="1147680"/>
            <a:ext cx="4724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32523"/>
                </a:solidFill>
                <a:latin typeface="Calibri"/>
              </a:rPr>
              <a:t>-A Sonnet Contains 14 l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 rot="591000">
            <a:off x="2094840" y="3273120"/>
            <a:ext cx="6858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32523"/>
                </a:solidFill>
                <a:latin typeface="Calibri"/>
              </a:rPr>
              <a:t>-A Sonnet is Written in Iambic Pentamet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 rot="20974800">
            <a:off x="2250360" y="5154480"/>
            <a:ext cx="6858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32523"/>
                </a:solidFill>
                <a:latin typeface="Calibri"/>
              </a:rPr>
              <a:t>-Various Rhyme Schemes – But we are Studying Shakespearean Sonnet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http://ksahaydak.wikispaces.com/file/view/poetryscroll-738679.gif/214237938/poetryscroll-738679.gif"/>
          <p:cNvPicPr/>
          <p:nvPr/>
        </p:nvPicPr>
        <p:blipFill>
          <a:blip r:embed="rId1"/>
          <a:stretch/>
        </p:blipFill>
        <p:spPr>
          <a:xfrm>
            <a:off x="6629400" y="838080"/>
            <a:ext cx="1800360" cy="1920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http://www.amersol.edu.pe/class12/_12abuend/7th/electives/images/poetry_000.gif"/>
          <p:cNvPicPr/>
          <p:nvPr/>
        </p:nvPicPr>
        <p:blipFill>
          <a:blip r:embed="rId2"/>
          <a:stretch/>
        </p:blipFill>
        <p:spPr>
          <a:xfrm>
            <a:off x="0" y="1600200"/>
            <a:ext cx="243828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ontent Placeholder 3" descr="iambicpentameter.png"/>
          <p:cNvPicPr/>
          <p:nvPr/>
        </p:nvPicPr>
        <p:blipFill>
          <a:blip r:embed="rId1"/>
          <a:srcRect l="5843" t="0" r="17101" b="0"/>
          <a:stretch/>
        </p:blipFill>
        <p:spPr>
          <a:xfrm rot="19634400">
            <a:off x="-259920" y="2463480"/>
            <a:ext cx="9661320" cy="188892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/>
          <p:cNvSpPr/>
          <p:nvPr/>
        </p:nvSpPr>
        <p:spPr>
          <a:xfrm>
            <a:off x="228600" y="990720"/>
            <a:ext cx="4038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Bradley Hand ITC"/>
              </a:rPr>
              <a:t>What!?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4419720" y="4876920"/>
            <a:ext cx="411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Bradley Hand ITC"/>
              </a:rPr>
              <a:t>What!?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Understanding Iambic Pentameter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8600" y="17521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Meaning of Iamb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syllables together is known as a foot. So in a line of poetry 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|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cow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|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uld be considered one foot. Because when you say the words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unstressed an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w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stressed, it can be represented a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a DUM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unstressed/stressed foot is known as an iamb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at</a:t>
            </a:r>
            <a:r>
              <a:rPr b="0" i="1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 where the term iambic comes fr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304920" y="1295280"/>
            <a:ext cx="8458200" cy="550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alibri"/>
              </a:rPr>
              <a:t>da DUM | da DUM | da DUM | da DUM | da D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Understanding Iambic Pentameter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28600" y="17521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Meaning of Pentamet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ntameter is simply penta, which means 5, meters. So a line of poetry written in pentameter has 5 feet, or 5 sets of stressed and unstressed syllables. In basic iambic pentameter, a line would have 5 feet of iambs, which is an unstressed and then a stressed syllabl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re you go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304920" y="1295280"/>
            <a:ext cx="8458200" cy="550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alibri"/>
              </a:rPr>
              <a:t>da DUM | da DUM | da DUM | da DUM | da D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Exampl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1287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f YOU | would PUT | the KEY | inSIDE | the 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a DUM | da DUM | da DUM | da DUM | da D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the simplest way to define iambic pentame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iece of Cake …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Righ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Fran\AppData\Local\Temp\Temporary Internet Files\Content.IE5\ID674X9T\MC900389948[1].wmf"/>
          <p:cNvPicPr/>
          <p:nvPr/>
        </p:nvPicPr>
        <p:blipFill>
          <a:blip r:embed="rId1"/>
          <a:stretch/>
        </p:blipFill>
        <p:spPr>
          <a:xfrm>
            <a:off x="7162920" y="4800600"/>
            <a:ext cx="1807920" cy="1812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Fran\AppData\Local\Temp\Temporary Internet Files\Content.IE5\ID674X9T\MC900389948[1].wmf"/>
          <p:cNvPicPr/>
          <p:nvPr/>
        </p:nvPicPr>
        <p:blipFill>
          <a:blip r:embed="rId2"/>
          <a:stretch/>
        </p:blipFill>
        <p:spPr>
          <a:xfrm>
            <a:off x="380880" y="4800600"/>
            <a:ext cx="180828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2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Shakespearean Rhyme Scheme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-360" y="13712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he Shakespearean Sonnet follows this rhyme schem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1295280" y="26668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hy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2133720" y="23623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hy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5"/>
          <p:cNvSpPr/>
          <p:nvPr/>
        </p:nvSpPr>
        <p:spPr>
          <a:xfrm>
            <a:off x="5410080" y="45720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hy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1295280" y="2057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hy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"/>
          <p:cNvSpPr/>
          <p:nvPr/>
        </p:nvSpPr>
        <p:spPr>
          <a:xfrm>
            <a:off x="2971800" y="3124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hy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"/>
          <p:cNvSpPr/>
          <p:nvPr/>
        </p:nvSpPr>
        <p:spPr>
          <a:xfrm>
            <a:off x="2133720" y="2895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hy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9"/>
          <p:cNvSpPr/>
          <p:nvPr/>
        </p:nvSpPr>
        <p:spPr>
          <a:xfrm>
            <a:off x="2971800" y="3733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hy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0"/>
          <p:cNvSpPr/>
          <p:nvPr/>
        </p:nvSpPr>
        <p:spPr>
          <a:xfrm>
            <a:off x="3809880" y="34290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hy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1"/>
          <p:cNvSpPr/>
          <p:nvPr/>
        </p:nvSpPr>
        <p:spPr>
          <a:xfrm>
            <a:off x="3809880" y="39625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hy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3"/>
          <p:cNvSpPr/>
          <p:nvPr/>
        </p:nvSpPr>
        <p:spPr>
          <a:xfrm>
            <a:off x="6248520" y="5638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hy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4"/>
          <p:cNvSpPr/>
          <p:nvPr/>
        </p:nvSpPr>
        <p:spPr>
          <a:xfrm>
            <a:off x="5410080" y="51814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hy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5"/>
          <p:cNvSpPr/>
          <p:nvPr/>
        </p:nvSpPr>
        <p:spPr>
          <a:xfrm>
            <a:off x="4648320" y="4876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hy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6"/>
          <p:cNvSpPr/>
          <p:nvPr/>
        </p:nvSpPr>
        <p:spPr>
          <a:xfrm>
            <a:off x="464832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hy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7"/>
          <p:cNvSpPr/>
          <p:nvPr/>
        </p:nvSpPr>
        <p:spPr>
          <a:xfrm>
            <a:off x="6248520" y="5410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hy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http://1.bp.blogspot.com/-zwNKSrW8W_0/TbJYCpIu6UI/AAAAAAAAACY/dp7BSIpPS_8/s1600/rhyme.jpg"/>
          <p:cNvPicPr/>
          <p:nvPr/>
        </p:nvPicPr>
        <p:blipFill>
          <a:blip r:embed="rId1"/>
          <a:srcRect l="0" t="0" r="50502" b="0"/>
          <a:stretch/>
        </p:blipFill>
        <p:spPr>
          <a:xfrm>
            <a:off x="6781680" y="1752480"/>
            <a:ext cx="2362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Shakespearean Rhyme Scheme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-360" y="13712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derstanding the Quatrains of a Sonne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8"/>
          <p:cNvSpPr/>
          <p:nvPr/>
        </p:nvSpPr>
        <p:spPr>
          <a:xfrm>
            <a:off x="1299960" y="1568520"/>
            <a:ext cx="8132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9"/>
          <p:cNvSpPr/>
          <p:nvPr/>
        </p:nvSpPr>
        <p:spPr>
          <a:xfrm>
            <a:off x="1375920" y="2895480"/>
            <a:ext cx="8132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0"/>
          <p:cNvSpPr/>
          <p:nvPr/>
        </p:nvSpPr>
        <p:spPr>
          <a:xfrm>
            <a:off x="1299960" y="4114800"/>
            <a:ext cx="8132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1"/>
          <p:cNvSpPr/>
          <p:nvPr/>
        </p:nvSpPr>
        <p:spPr>
          <a:xfrm>
            <a:off x="1299960" y="5226120"/>
            <a:ext cx="8132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2"/>
          <p:cNvSpPr/>
          <p:nvPr/>
        </p:nvSpPr>
        <p:spPr>
          <a:xfrm>
            <a:off x="2209680" y="224964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16160" indent="-13161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Quatrain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should establish the subject, main theme, or main metaphor of the son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3"/>
          <p:cNvSpPr/>
          <p:nvPr/>
        </p:nvSpPr>
        <p:spPr>
          <a:xfrm>
            <a:off x="2286000" y="34290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16160" indent="-13161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Quatrain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should develop or complicate the sonnet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 theme.  Often some imaginative example is giv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4"/>
          <p:cNvSpPr/>
          <p:nvPr/>
        </p:nvSpPr>
        <p:spPr>
          <a:xfrm>
            <a:off x="2286000" y="4648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16160" indent="-13161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Quatrain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should round off the sonnet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 theme.  Sometimes this is done by using a twist or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5"/>
          <p:cNvSpPr/>
          <p:nvPr/>
        </p:nvSpPr>
        <p:spPr>
          <a:xfrm>
            <a:off x="2362320" y="5791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71600" indent="-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Quatrain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should serve as a conclusion to the sonnet.  This often leaves the reader with an image of some so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01:57:52Z</dcterms:created>
  <dc:creator>Fran</dc:creator>
  <dc:description/>
  <dc:language>en-US</dc:language>
  <cp:lastModifiedBy>Sharon Spada</cp:lastModifiedBy>
  <dcterms:modified xsi:type="dcterms:W3CDTF">2015-04-07T11:43:18Z</dcterms:modified>
  <cp:revision>67</cp:revision>
  <dc:subject/>
  <dc:title>Slide 1</dc:title>
</cp:coreProperties>
</file>